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02038"/>
        <c:axId val="52138154"/>
      </c:barChart>
      <c:catAx>
        <c:axId val="24202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38154"/>
        <c:crosses val="autoZero"/>
        <c:auto val="1"/>
        <c:lblAlgn val="ctr"/>
        <c:lblOffset val="100"/>
        <c:noMultiLvlLbl val="0"/>
      </c:catAx>
      <c:valAx>
        <c:axId val="52138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02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254-F606-4526-B16D-21E8DB9C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131-C873-49C4-993A-A3C1F2C9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DE7-2D49-440E-9E08-9AEDC50D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E67-86C6-4B8D-8E63-E7A85552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A54-BEC1-4E9D-AE8D-757FF067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101-0DC4-4AB2-931B-F18DBF1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64B-1B81-431D-B42B-43E7C69B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9CD-367B-4590-BD47-84E0FF4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2A5-1A2A-4337-9A88-DDD9A5FD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E0F-C07A-40B2-8253-D6803C3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231-C077-43E0-AC70-43ACECD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4EC-6848-4C59-9D4D-46B8DEA0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7B1A8-0EBF-434A-86AC-E27A493CE2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