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9CB1-361E-44E5-A805-FE1975BC4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FEAC-FEB7-4FD6-8E8C-B3819D2B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06F2-5333-4B80-80F7-64A961744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97E7-32FB-4661-8323-E38150A5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AA54-F17C-4C14-8D75-5BF39F15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FAB2-0A39-4563-BCAA-D992187D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1425-E5BE-400A-946E-F3F30F1A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1DB1-5C04-4D3C-A4A8-FF92168E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892B-C977-42F6-A01C-C45013D4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3A90-6431-4264-9585-440890EC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0CFB-BF92-4B4D-AE8C-B76E49AF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3855-78D0-4E6D-A61D-5F11950F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ACF4-C923-416E-ADFB-D55C5A280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3962160" y="28195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0880" y="685800"/>
            <a:ext cx="4800240" cy="3429000"/>
            <a:chOff x="380880" y="685800"/>
            <a:chExt cx="4800240" cy="3429000"/>
          </a:xfrm>
        </p:grpSpPr>
        <p:sp>
          <p:nvSpPr>
            <p:cNvPr id="43" name=""/>
            <p:cNvSpPr/>
            <p:nvPr/>
          </p:nvSpPr>
          <p:spPr>
            <a:xfrm>
              <a:off x="380880" y="685800"/>
              <a:ext cx="1072080" cy="516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un T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73240" y="1531080"/>
              <a:ext cx="699120" cy="516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DK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012040" y="2188800"/>
              <a:ext cx="1071720" cy="563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mpo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016160" y="2282760"/>
              <a:ext cx="1164960" cy="5634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19680" y="1155600"/>
              <a:ext cx="279360" cy="37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872360" y="1906920"/>
              <a:ext cx="37260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84120" y="2470680"/>
              <a:ext cx="932040" cy="4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44080" y="2940480"/>
              <a:ext cx="1118520" cy="610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GI brow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71480" y="3738960"/>
              <a:ext cx="419400" cy="375840"/>
            </a:xfrm>
            <a:prstGeom prst="smileyFace">
              <a:avLst>
                <a:gd name="adj" fmla="val 9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0758600">
              <a:off x="2992680" y="3549240"/>
              <a:ext cx="652320" cy="46980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flipH="1">
            <a:off x="3428640" y="2819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9960" y="681120"/>
            <a:ext cx="1071720" cy="515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un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92320" y="1527120"/>
            <a:ext cx="698400" cy="51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D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31840" y="2184480"/>
            <a:ext cx="1071720" cy="563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Resul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35600" y="2278080"/>
            <a:ext cx="1164960" cy="5634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38400" y="1150920"/>
            <a:ext cx="28080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90720" y="1901880"/>
            <a:ext cx="372960" cy="3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03560" y="2465280"/>
            <a:ext cx="932040" cy="4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200400"/>
            <a:ext cx="1117800" cy="61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GI 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4952880"/>
            <a:ext cx="419400" cy="3762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758600">
            <a:off x="1751760" y="3809880"/>
            <a:ext cx="1490760" cy="182880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2590920"/>
            <a:ext cx="99036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1447920"/>
            <a:ext cx="114300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c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1981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867280" y="2286000"/>
            <a:ext cx="1143000" cy="533160"/>
            <a:chOff x="5867280" y="2286000"/>
            <a:chExt cx="1143000" cy="533160"/>
          </a:xfrm>
        </p:grpSpPr>
        <p:sp>
          <p:nvSpPr>
            <p:cNvPr id="68" name=""/>
            <p:cNvSpPr/>
            <p:nvPr/>
          </p:nvSpPr>
          <p:spPr>
            <a:xfrm>
              <a:off x="5867280" y="2286000"/>
              <a:ext cx="1143000" cy="53316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81720" y="2387520"/>
              <a:ext cx="184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 flipH="1">
            <a:off x="5181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3352680"/>
            <a:ext cx="11430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828800" y="2742840"/>
            <a:ext cx="2209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3962520"/>
            <a:ext cx="10670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114800" y="28195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429000" y="441972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3124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8600" y="152280"/>
            <a:ext cx="3124080" cy="41148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4191120"/>
            <a:ext cx="6095880" cy="12189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22860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3429000"/>
            <a:ext cx="10666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281952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571640" y="3886200"/>
            <a:ext cx="685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69440" y="574560"/>
            <a:ext cx="124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1828800"/>
            <a:ext cx="120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1752480"/>
            <a:ext cx="108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52480" y="2784600"/>
            <a:ext cx="77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40384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6160" y="48006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15120" y="5527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752480" y="137160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137160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2209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352320" y="25909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2590920"/>
            <a:ext cx="9903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88" idx="3"/>
            <a:endCxn id="86" idx="3"/>
          </p:cNvCxnSpPr>
          <p:nvPr/>
        </p:nvCxnSpPr>
        <p:spPr>
          <a:xfrm flipH="1" flipV="1">
            <a:off x="3426840" y="3195000"/>
            <a:ext cx="99000" cy="1834200"/>
          </a:xfrm>
          <a:prstGeom prst="curvedConnector5">
            <a:avLst>
              <a:gd name="adj1" fmla="val -840145"/>
              <a:gd name="adj2" fmla="val 50000"/>
              <a:gd name="adj3" fmla="val -8401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304812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438280" y="52578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352680"/>
            <a:ext cx="622440" cy="648000"/>
          </a:xfrm>
          <a:custGeom>
            <a:avLst/>
            <a:gdLst/>
            <a:ahLst/>
            <a:rect l="l" t="t" r="r" b="b"/>
            <a:pathLst>
              <a:path w="392" h="408">
                <a:moveTo>
                  <a:pt x="392" y="104"/>
                </a:moveTo>
                <a:cubicBezTo>
                  <a:pt x="384" y="152"/>
                  <a:pt x="376" y="200"/>
                  <a:pt x="344" y="248"/>
                </a:cubicBezTo>
                <a:cubicBezTo>
                  <a:pt x="312" y="296"/>
                  <a:pt x="248" y="376"/>
                  <a:pt x="200" y="392"/>
                </a:cubicBezTo>
                <a:cubicBezTo>
                  <a:pt x="152" y="408"/>
                  <a:pt x="88" y="376"/>
                  <a:pt x="56" y="344"/>
                </a:cubicBezTo>
                <a:cubicBezTo>
                  <a:pt x="24" y="312"/>
                  <a:pt x="0" y="248"/>
                  <a:pt x="8" y="200"/>
                </a:cubicBezTo>
                <a:cubicBezTo>
                  <a:pt x="16" y="152"/>
                  <a:pt x="72" y="88"/>
                  <a:pt x="104" y="56"/>
                </a:cubicBezTo>
                <a:cubicBezTo>
                  <a:pt x="136" y="24"/>
                  <a:pt x="176" y="16"/>
                  <a:pt x="200" y="8"/>
                </a:cubicBezTo>
                <a:cubicBezTo>
                  <a:pt x="224" y="0"/>
                  <a:pt x="236" y="4"/>
                  <a:pt x="248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2:40:48Z</dcterms:created>
  <dc:creator>CPT</dc:creator>
  <dc:description/>
  <dc:language>en-US</dc:language>
  <cp:lastModifiedBy>CPT</cp:lastModifiedBy>
  <dcterms:modified xsi:type="dcterms:W3CDTF">2009-08-06T19:13:03Z</dcterms:modified>
  <cp:revision>1</cp:revision>
  <dc:subject/>
  <dc:title>PowerPoint Presentation</dc:title>
</cp:coreProperties>
</file>