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5395-AAE6-4CB1-BF10-3DB963AA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E6CB-56CE-4059-A406-19C2FFBD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D245-3F51-4DB4-AEDF-FD784D5B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A1D2-E2E2-4063-AC6A-7E4395C8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C663-4034-47A7-B92A-8BEE5821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0191-BAA7-429B-8D24-9774D2FE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AE83-7B19-4FC2-BE35-3BE9F302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ABCB-4D85-45C6-A11D-02C6430F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3DB-61A6-447B-989F-2FE89818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B8F7-7242-4BA3-8F0B-1B8B8D49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C27-7ED7-4F99-AD93-4E173E39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B24C-F641-41D7-BDDD-7CC32729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E1E3-3AF0-4047-8089-02DBE8932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96216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4800240" cy="3429000"/>
            <a:chOff x="380880" y="685800"/>
            <a:chExt cx="4800240" cy="3429000"/>
          </a:xfrm>
        </p:grpSpPr>
        <p:sp>
          <p:nvSpPr>
            <p:cNvPr id="43" name=""/>
            <p:cNvSpPr/>
            <p:nvPr/>
          </p:nvSpPr>
          <p:spPr>
            <a:xfrm>
              <a:off x="380880" y="685800"/>
              <a:ext cx="1072080" cy="516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un T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73240" y="1531080"/>
              <a:ext cx="699120" cy="51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D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12040" y="2188800"/>
              <a:ext cx="1071720" cy="56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16160" y="2282760"/>
              <a:ext cx="1164960" cy="563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19680" y="1155600"/>
              <a:ext cx="27936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72360" y="1906920"/>
              <a:ext cx="37260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84120" y="2470680"/>
              <a:ext cx="932040" cy="4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44080" y="2940480"/>
              <a:ext cx="1118520" cy="61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I 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71480" y="3738960"/>
              <a:ext cx="419400" cy="37584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758600">
              <a:off x="2992680" y="3549240"/>
              <a:ext cx="652320" cy="4698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H="1">
            <a:off x="342864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960" y="681120"/>
            <a:ext cx="1071720" cy="51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2320" y="1527120"/>
            <a:ext cx="69840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2184480"/>
            <a:ext cx="107172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Resul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5600" y="2278080"/>
            <a:ext cx="1164960" cy="563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38400" y="1150920"/>
            <a:ext cx="28080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90720" y="1901880"/>
            <a:ext cx="37296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03560" y="2465280"/>
            <a:ext cx="932040" cy="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200400"/>
            <a:ext cx="1117800" cy="6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GI 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952880"/>
            <a:ext cx="419400" cy="3762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758600">
            <a:off x="1751760" y="3809880"/>
            <a:ext cx="1490760" cy="18288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2590920"/>
            <a:ext cx="9903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4479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67280" y="2286000"/>
            <a:ext cx="1143000" cy="533160"/>
            <a:chOff x="5867280" y="2286000"/>
            <a:chExt cx="1143000" cy="533160"/>
          </a:xfrm>
        </p:grpSpPr>
        <p:sp>
          <p:nvSpPr>
            <p:cNvPr id="68" name=""/>
            <p:cNvSpPr/>
            <p:nvPr/>
          </p:nvSpPr>
          <p:spPr>
            <a:xfrm>
              <a:off x="5867280" y="2286000"/>
              <a:ext cx="1143000" cy="5331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81720" y="238752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518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3526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28800" y="274284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962520"/>
            <a:ext cx="10670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14800" y="28195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429000" y="44197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8600" y="152280"/>
            <a:ext cx="3124080" cy="4114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191120"/>
            <a:ext cx="6095880" cy="1218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2860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429000"/>
            <a:ext cx="10666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819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71640" y="38862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69440" y="574560"/>
            <a:ext cx="124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82880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175248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2480" y="2784600"/>
            <a:ext cx="7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038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160" y="48006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15120" y="5527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752480" y="13716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13716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209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5232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5909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8" idx="3"/>
            <a:endCxn id="86" idx="3"/>
          </p:cNvCxnSpPr>
          <p:nvPr/>
        </p:nvCxnSpPr>
        <p:spPr>
          <a:xfrm flipH="1" flipV="1">
            <a:off x="3426840" y="3195000"/>
            <a:ext cx="99000" cy="1834200"/>
          </a:xfrm>
          <a:prstGeom prst="curvedConnector5">
            <a:avLst>
              <a:gd name="adj1" fmla="val -840145"/>
              <a:gd name="adj2" fmla="val 50000"/>
              <a:gd name="adj3" fmla="val -8401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0481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3828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352680"/>
            <a:ext cx="622440" cy="648000"/>
          </a:xfrm>
          <a:custGeom>
            <a:avLst/>
            <a:gdLst/>
            <a:ahLst/>
            <a:rect l="l" t="t" r="r" b="b"/>
            <a:pathLst>
              <a:path w="392" h="408">
                <a:moveTo>
                  <a:pt x="392" y="104"/>
                </a:moveTo>
                <a:cubicBezTo>
                  <a:pt x="384" y="152"/>
                  <a:pt x="376" y="200"/>
                  <a:pt x="344" y="248"/>
                </a:cubicBezTo>
                <a:cubicBezTo>
                  <a:pt x="312" y="296"/>
                  <a:pt x="248" y="376"/>
                  <a:pt x="200" y="392"/>
                </a:cubicBezTo>
                <a:cubicBezTo>
                  <a:pt x="152" y="408"/>
                  <a:pt x="88" y="376"/>
                  <a:pt x="56" y="344"/>
                </a:cubicBezTo>
                <a:cubicBezTo>
                  <a:pt x="24" y="312"/>
                  <a:pt x="0" y="248"/>
                  <a:pt x="8" y="200"/>
                </a:cubicBezTo>
                <a:cubicBezTo>
                  <a:pt x="16" y="152"/>
                  <a:pt x="72" y="88"/>
                  <a:pt x="104" y="56"/>
                </a:cubicBezTo>
                <a:cubicBezTo>
                  <a:pt x="136" y="24"/>
                  <a:pt x="176" y="16"/>
                  <a:pt x="200" y="8"/>
                </a:cubicBezTo>
                <a:cubicBezTo>
                  <a:pt x="224" y="0"/>
                  <a:pt x="236" y="4"/>
                  <a:pt x="248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40:48Z</dcterms:created>
  <dc:creator>CPT</dc:creator>
  <dc:description/>
  <dc:language>en-US</dc:language>
  <cp:lastModifiedBy>CPT</cp:lastModifiedBy>
  <dcterms:modified xsi:type="dcterms:W3CDTF">2009-08-06T19:13:03Z</dcterms:modified>
  <cp:revision>1</cp:revision>
  <dc:subject/>
  <dc:title>PowerPoint Presentation</dc:title>
</cp:coreProperties>
</file>