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85E53-672D-49C6-8FCA-2A3A4940B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E57E6-7FBE-4116-ABE6-CC3ECEFEB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E5879-7B51-495C-ADC3-15817EDE6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0BF69-1B42-4259-BA75-1FF3C76CD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0E866-B176-4475-9E49-835EC836C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08C84-77F0-42A8-A82F-1624AEF10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92B68-B2B7-4438-B8AD-999125165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6C1D0-14A7-473E-9C40-2928D55E5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21FA2-272D-4F19-A20D-B84C1E295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E88FC-734A-4ED2-88D3-C3537B513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4AEB3-3C93-44CB-8AF0-9AA7CC537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CEB20-63E2-4D57-93D4-A50A118E5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115D1A-458B-46DD-9A5F-54DCBA7E549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26T13:41:16Z</dcterms:created>
  <dc:creator>m l</dc:creator>
  <dc:description/>
  <dc:language>en-US</dc:language>
  <cp:lastModifiedBy>m l</cp:lastModifiedBy>
  <dcterms:modified xsi:type="dcterms:W3CDTF">2013-11-26T13:41:51Z</dcterms:modified>
  <cp:revision>1</cp:revision>
  <dc:subject/>
  <dc:title>title</dc:title>
</cp:coreProperties>
</file>