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ECA29-9582-445A-B5A1-8936D843EB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7CC8F-BFA6-4B88-911D-4AE76D1530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67ACF-0D69-4C50-9F6C-7584D98BB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9E40E-1566-4E8C-ACFB-CE257C6481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0C3AF-5200-4DAC-A53F-D98A14FC6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9DE55-3C6E-4651-98D0-A3443B8CD0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47DA4-2519-41A5-94F1-C06254E2A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4600F-D209-4692-9A2A-E17DD92A5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F6D96-0EED-4286-8D19-3543ACF4E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77252-0467-4917-ACC2-C27571B94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FD35B-758B-4323-B353-88FE33E800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51C09-979A-41D0-B2F0-CE7EED843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s-ES_tradn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C1AD67-9263-441B-B711-43784449AAF9}" type="slidenum">
              <a:rPr b="0" lang="es-ES_tradnl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This is a PPT docu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Lorenzo Sanchez</dc:creator>
  <dc:description/>
  <dc:language>en-US</dc:language>
  <cp:lastModifiedBy/>
  <cp:revision>0</cp:revision>
  <dc:subject/>
  <dc:title/>
</cp:coreProperties>
</file>