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1359-A19D-4761-A9DA-32D2E764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AB8-CD4C-4098-85ED-D6C50FCD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973-FB9E-46D2-9771-9D7C0F18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2DB-84F0-4A78-9B7F-5D24BA77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54F-0723-416E-806E-F60DEB72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2867-2450-4543-9C58-2A8B5F4E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17DB-6843-4D28-8F31-8614E45C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562-0688-40C5-97B5-A3F04F98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B6B-16A8-41BE-9386-DF5AD5E2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6C1B-9281-4486-A94E-607494D7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6D3C-8815-4962-ADC7-AD3F0A25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8D3-ABAF-4339-835E-0FDB9375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F74F-0123-4BA6-8106-1822B4017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e pré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inima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e seconde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ci est une seconde page de 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é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y a aucun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éressante à ce ti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re plus lo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5:31:31Z</dcterms:created>
  <dc:creator>LENFANT-GIL　_x0012_ܿろ䴴t㢠〿_x0002_</dc:creator>
  <dc:description/>
  <dc:language>en-US</dc:language>
  <cp:lastModifiedBy>LENFANT-GIL̀탬_x0012_罥わ팼_x0012_</cp:lastModifiedBy>
  <dcterms:modified xsi:type="dcterms:W3CDTF">2007-07-20T15:38:26Z</dcterms:modified>
  <cp:revision>3</cp:revision>
  <dc:subject/>
  <dc:title>Une présentation</dc:title>
</cp:coreProperties>
</file>