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540-DA34-4BCD-B333-9912D72C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7FE-4ED9-420D-86FA-612B396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584-D8F6-4B30-BA88-81DD7FA9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247-75C7-465A-9C38-8C4ACF0E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0A8-DA94-4131-ADA4-CBDA966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5E5-EAA2-4821-A8BE-C2133E06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672-78E2-455D-AD43-9E3C714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425-1C36-42C2-82C2-97169E5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D01-4C99-408B-98B0-A0D78535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587-E7FF-4B03-ADBB-B1EE47A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DE4-38AF-4C95-823B-E9F344E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CA9-2CE0-4F81-AA6B-75B7836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A359-2D4D-499C-8560-A97F0D2B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inima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second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ci est une seconde page de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y a aucun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éressante à ce ti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re plus l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5:31:31Z</dcterms:created>
  <dc:creator>LENFANT-GIL　_x0012_ܿろ䴴t㢠〿_x0002_</dc:creator>
  <dc:description/>
  <dc:language>en-US</dc:language>
  <cp:lastModifiedBy>LENFANT-GIL̀탬_x0012_罥わ팼_x0012_</cp:lastModifiedBy>
  <dcterms:modified xsi:type="dcterms:W3CDTF">2007-07-20T15:38:26Z</dcterms:modified>
  <cp:revision>3</cp:revision>
  <dc:subject/>
  <dc:title>Une présentation</dc:title>
</cp:coreProperties>
</file>