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300313"/>
        <c:axId val="66157181"/>
      </c:barChart>
      <c:catAx>
        <c:axId val="113003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57181"/>
        <c:crosses val="autoZero"/>
        <c:auto val="1"/>
        <c:lblAlgn val="ctr"/>
        <c:lblOffset val="100"/>
        <c:noMultiLvlLbl val="0"/>
      </c:catAx>
      <c:valAx>
        <c:axId val="661571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003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3475-9FD0-4203-9E94-19EEFB49C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2AE4-726A-431C-B0E4-EF134F56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66E3-1234-473C-917F-AF961A1E5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BEB6-2CA8-442B-B566-8B0BE0DBF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1BDE-45C7-440D-B1A8-F2B7C0FA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594A-DB09-411E-824E-88747FD6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4F6F-006B-4520-B326-49819DAB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1490-7D3B-460D-9DF2-DF1A64AF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B56E-2EE2-4DFF-BCCC-69F1B05C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68C5-FDCA-491C-8314-D95F3361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878E-A874-4BFC-84D4-CE19B681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48A3-6467-42F9-8AAE-324EB1C7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9B51E-2E01-43B2-BBBC-A3FDB46742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