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20765"/>
        <c:axId val="77879619"/>
      </c:barChart>
      <c:catAx>
        <c:axId val="45207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879619"/>
        <c:crosses val="autoZero"/>
        <c:auto val="1"/>
        <c:lblAlgn val="ctr"/>
        <c:lblOffset val="100"/>
        <c:noMultiLvlLbl val="0"/>
      </c:catAx>
      <c:valAx>
        <c:axId val="778796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207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F7E6-1F71-4659-A01C-826841820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D673-4D7A-4B3A-B3E5-4D72FC200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6DE6-0A79-4C9B-9A12-837AA0779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DE42-95CA-416C-AA47-C3DAB160C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7A35-2735-4327-9AE7-30540D695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C360-D851-4B6D-9EFD-CEB2BD6C1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30BF-0F82-4995-A3C4-6CF1D33C3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FFCD-A07E-43CB-9BB6-CE0CE1CDD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8B58-C0A0-4FA8-8B57-2CD89C54F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53B8-D035-4B19-B8BB-6AF6102A0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25C2-FC30-47C4-B85C-DD51C7CB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19DE-7493-49E1-A318-B24E39A90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A5FF38-53D5-4F25-BC06-B38FF90B0FF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