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60329"/>
        <c:axId val="70671551"/>
      </c:barChart>
      <c:catAx>
        <c:axId val="53160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71551"/>
        <c:crosses val="autoZero"/>
        <c:auto val="1"/>
        <c:lblAlgn val="ctr"/>
        <c:lblOffset val="100"/>
        <c:noMultiLvlLbl val="0"/>
      </c:catAx>
      <c:valAx>
        <c:axId val="70671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60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49B-1401-4774-A8E7-004DBE29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F86-EE19-4683-B80E-A9F0D687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E01-EE96-4F88-9A5E-9AD78767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CC9-E1EE-40EE-8573-A69FFB98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854-DEB3-44D0-848F-3A7CBC1C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440-38D7-42AF-A44F-0E733051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42A-ABBB-46CF-9D36-69BC80BD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476-680E-4243-843F-011D00F2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B5F-8826-4727-B5A1-F5651ED8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CAF-4FA5-4CB4-849A-17E8D36C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E4A-3CCF-4E33-86AE-84CFFC32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DC2-C87A-4B90-AB40-D683E9EF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7A930-C1B8-4D2B-A503-6B86813A02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