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62020"/>
        <c:axId val="13040543"/>
      </c:barChart>
      <c:catAx>
        <c:axId val="30562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40543"/>
        <c:crosses val="autoZero"/>
        <c:auto val="1"/>
        <c:lblAlgn val="ctr"/>
        <c:lblOffset val="100"/>
        <c:noMultiLvlLbl val="0"/>
      </c:catAx>
      <c:valAx>
        <c:axId val="13040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62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0B7-CBE4-48DC-B88E-B1EA5240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030-3CF9-4566-B42E-A6F6CF3B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2A7-E0DA-4359-B6F0-D2024DCD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895-CE9F-466E-A997-6909FF62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5D5-F994-4D78-AAA7-CE70FD31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D26-30A8-444B-8D3A-DD8E2898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D13-1DC8-4E10-A555-B8289E08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07A-80E5-49BF-B5D3-C796250A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D2D-86C0-4708-9DC7-7D542EDF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A33-39C7-488D-A1E9-4BAEE0A5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AD8-40D3-4315-8989-8330F856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EC9-98B2-48BB-8234-0855A28D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20210-C45D-4A74-8892-44F68C7FF5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