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883469"/>
        <c:axId val="72903355"/>
      </c:barChart>
      <c:catAx>
        <c:axId val="538834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03355"/>
        <c:crosses val="autoZero"/>
        <c:auto val="1"/>
        <c:lblAlgn val="ctr"/>
        <c:lblOffset val="100"/>
        <c:noMultiLvlLbl val="0"/>
      </c:catAx>
      <c:valAx>
        <c:axId val="729033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834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7DB2-2506-4059-AE2D-064BFF2A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4E16-D0F5-41AA-9F9D-21521426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352A-B751-4617-A160-A3B29D0E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1C0E-B26B-4E71-AEDF-2F7565FB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0B4A-D909-41D1-8338-816E83BC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A347-98E5-4B22-89F1-41B19E53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D837-5A69-468F-A9F3-B4DB7D01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A820-7E28-45A8-9A17-EBAECC32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BFB6-0A46-40ED-BD87-65147CCC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211A-68AA-4D13-A8CC-7D14086E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B459-6C05-4C13-8E0D-B7D1BD7E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3A16-B64D-4FA3-9985-BD8BE42B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2DB94-4462-4CD4-A56D-174F3771B6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