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69768"/>
        <c:axId val="81006191"/>
      </c:barChart>
      <c:catAx>
        <c:axId val="76269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6191"/>
        <c:crosses val="autoZero"/>
        <c:auto val="1"/>
        <c:lblAlgn val="ctr"/>
        <c:lblOffset val="100"/>
        <c:noMultiLvlLbl val="0"/>
      </c:catAx>
      <c:valAx>
        <c:axId val="81006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9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D57-C903-43C7-931E-9666788D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858-C35C-4BB6-B1E8-C06F9416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D31-6E58-46B9-898D-08C0059C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B13-38DC-46FD-9D1C-D782ECD8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B0E-CE67-4562-B32F-13653EF4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5E9-6C3F-485C-B282-7757486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E3B-3B76-4A13-BCD8-00CDBE74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9D1-2FA5-4154-AE66-68503B5D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5D1-2D88-470C-A0A5-0065630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2BC-CB7D-47E1-A37C-7D92E34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E58-B431-4C38-B3C7-5A6C769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681-A53E-4FBE-9086-9F89BFA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5CCB4-06AB-45BD-9E9A-2F9C678A1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