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37373"/>
        <c:axId val="64381695"/>
      </c:barChart>
      <c:catAx>
        <c:axId val="67337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81695"/>
        <c:crosses val="autoZero"/>
        <c:auto val="1"/>
        <c:lblAlgn val="ctr"/>
        <c:lblOffset val="100"/>
        <c:noMultiLvlLbl val="0"/>
      </c:catAx>
      <c:valAx>
        <c:axId val="64381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37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9FB-EF16-4371-B5FA-BDCB6695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DAB-5F3A-4314-9612-1A0AEAEB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F64-78FA-4AE4-9F46-6A195AF0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051-FCE8-4EF1-A385-21642162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21F-A9EF-4152-B21F-0877EAE2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A50-5669-442A-93CE-047410C5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8F1-E1E2-4A0D-B096-95358237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F29-DE9D-4C55-B92A-FC36DCFB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6FC-91FB-4EF2-93F6-E11EAE0A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223-AA61-4F82-992E-707F7716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A94-71D0-4AC3-BECC-F392969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25D-FAEF-499A-AA28-AD1FB7A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3DED8-E1BD-47DB-AA1C-D2EC452A66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