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198002"/>
        <c:axId val="7297565"/>
      </c:barChart>
      <c:catAx>
        <c:axId val="311980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7565"/>
        <c:crosses val="autoZero"/>
        <c:auto val="1"/>
        <c:lblAlgn val="ctr"/>
        <c:lblOffset val="100"/>
        <c:noMultiLvlLbl val="0"/>
      </c:catAx>
      <c:valAx>
        <c:axId val="72975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980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1F9A-4F4F-4068-8164-94133EB0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ECDA-17A8-495C-B856-6D4B7DC6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430C-FE38-40D7-AC2E-097BE560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FC11-DCDC-4516-AE81-1B362B05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497B-E346-4B5B-8CB7-5BB41F84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20E1-3473-4F0C-A364-099A8C0F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412A-8436-4BC9-89E4-F645BE80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43FC-89AB-473B-862C-17DF023F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0F9C-1B21-42A5-A96B-62A7850A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6AA3-8CCF-48CD-ABDF-C3CD9BC7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4695-81F9-45F0-B581-7A822B2F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C87D-7E30-4432-9B72-3BD8642F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DC3C1-E78A-4B3F-972F-CF36445ABE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