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47463"/>
        <c:axId val="56051565"/>
      </c:barChart>
      <c:catAx>
        <c:axId val="73647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51565"/>
        <c:crosses val="autoZero"/>
        <c:auto val="1"/>
        <c:lblAlgn val="ctr"/>
        <c:lblOffset val="100"/>
        <c:noMultiLvlLbl val="0"/>
      </c:catAx>
      <c:valAx>
        <c:axId val="56051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7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D17-0C58-4D76-8107-4C0843F9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3ED3-7BA4-4827-983A-5B480704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308-2CB4-4706-9E0C-CC540A17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A21-2C35-47B5-ACE8-E1296470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E20-EE3B-4008-88F4-962B03B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5D6-BA5C-445C-B9D1-8513CD7B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712-24A3-4242-9032-ABCD7FE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AA7-D410-45FA-80CD-A72E7D9A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CDA-579F-4DCC-B696-9939418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5F9B-4B19-49C2-927C-7FBBE52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719-E1B9-488A-92EA-8881502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DCB-A559-4849-B263-CDC63FE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03BB8-EFF3-4307-A1D4-BF79C1BDE7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