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20894"/>
        <c:axId val="64194872"/>
      </c:barChart>
      <c:catAx>
        <c:axId val="150208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94872"/>
        <c:crosses val="autoZero"/>
        <c:auto val="1"/>
        <c:lblAlgn val="ctr"/>
        <c:lblOffset val="100"/>
        <c:noMultiLvlLbl val="0"/>
      </c:catAx>
      <c:valAx>
        <c:axId val="64194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208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6E87-84EA-4A42-9DA7-CCCFDF76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EE9-67A1-41F3-8607-06F01769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521-933B-4B9E-97A1-6876D27D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2A28-A621-4DEF-869F-46CD62CD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BE26-6CDF-415B-83C9-BD906BD1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8E7-02D7-47EE-A505-3D81C89B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6654-0E15-4DF4-A5EB-6334E1E5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22E-BE4B-4DFF-88E3-794C2804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1B5-9F0E-4345-B474-D8972D97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9C2C-B474-44E4-8EB3-FC012308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10DD-0881-40D4-BEAF-EF80E2DA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529-D09F-40E6-8F1E-0A875A42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B727A-8241-4BEA-B09E-D335DF97D1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