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15933"/>
        <c:axId val="55630950"/>
      </c:barChart>
      <c:catAx>
        <c:axId val="90815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30950"/>
        <c:crosses val="autoZero"/>
        <c:auto val="1"/>
        <c:lblAlgn val="ctr"/>
        <c:lblOffset val="100"/>
        <c:noMultiLvlLbl val="0"/>
      </c:catAx>
      <c:valAx>
        <c:axId val="55630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15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8B8-F5B4-4371-BA94-7209B54A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689-0705-401D-9862-85B3C323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BE2-ABEF-43DD-93A1-34151C46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275-FD8E-4D60-92C4-F18F301A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944-8D21-4D0F-B1E8-1AF9D734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FDD-D2A4-4877-817A-3A3D73D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532-ABA0-4ABB-8695-3F84A6F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093-A686-4ED6-A3F9-F1DD1BF3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1C3-CC23-4374-A162-C9FCC87F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66D-E146-41E1-B444-E777F0FA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8F5-7502-414E-8850-F3AAB4B4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843-D536-4667-9EDD-BE5E811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C9F42-E1CB-4616-BB45-0C251CD071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