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425364"/>
        <c:axId val="80300475"/>
      </c:barChart>
      <c:catAx>
        <c:axId val="834253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300475"/>
        <c:crosses val="autoZero"/>
        <c:auto val="1"/>
        <c:lblAlgn val="ctr"/>
        <c:lblOffset val="100"/>
        <c:noMultiLvlLbl val="0"/>
      </c:catAx>
      <c:valAx>
        <c:axId val="803004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4253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CE7E-4150-45CE-B990-3CF185B47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9583-578E-4C9A-97B7-F26B783DC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C2B4-B818-40DE-9053-5754478DA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716E-7FF3-44EC-AA32-D0A9114BE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E95B-62D3-49DE-BE6C-29D0B5F13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D22F-6CF3-4C22-AE5D-42109BB2C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8163-9B88-4105-BEA2-38B0E029B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283C-654F-48A0-A6EC-0B3D616F8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B01C-D014-4A64-A56B-E12C1A644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311F-15DE-4B75-BEFE-1382B0FF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D511-B5F6-4945-A29E-C0F9D620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997B-790D-4D7D-A941-32A2CC14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7269E7-8D15-420B-8243-B5B7F7C97D3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